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11750-4391-4F17-80A1-DACA4086A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A9218-FD53-4270-B2C1-A208F5BC03F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9346E-3A69-4180-9B5F-9C17C1952AF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953E4-5600-4163-B924-CBA2AAE4D11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A5EBA-3C2D-4C6B-B224-98460D5714A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C85B6-7A90-4E0A-9CF6-1E9B7A937F6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04CE3-30CC-42FC-9CC3-12EA9A0CD76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2DE2E-847D-4F4B-B5E5-23D93E959A4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06C14-AF50-420D-9E0A-D02FBD5E643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121EB-F5BD-4A98-838B-AB7580D4BE4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4A77A-DBCB-406F-B59F-7D7C5197C00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90B58-2367-4CF4-ADD7-B0B00693F36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C180E-2791-4EDD-9128-94971919454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7DE80-0B34-4A45-8871-C385CC2BF2E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3A03D-3595-4974-A308-E729BCE3DD7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3B1DD-4F4A-4409-A7C9-9E2BEC083F0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F6370-171E-4E8B-931E-58ACEE94458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860D3-BC56-46F5-B813-EF0856DB268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B76F2-9DA3-405B-B999-D97A43AA89C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9484-94F8-4BFB-9EBC-9F95D432E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147A-A56B-4C5C-A2E3-C6E89B0E6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ADA9-9105-42E2-92AF-0FC1B1672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5950-1A2D-4D1D-BEAA-2403F41E0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702B6-8D1C-4568-964C-E7B9F053A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3C03A-5144-450B-A2A4-DE9D0E231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4E5D0-7C0E-4D02-91AA-3B0F3DFE2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DDFF6-141D-4F78-BEEA-33FC0388D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4C404-4DC1-4E8B-BE85-FEA5CBDC6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C5B0A-A68B-4095-B158-FC9A25665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8073F-8AD7-4860-8C55-45843617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1B55-412B-4338-8A15-5BA4A6B9C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7CAF0-1361-46FD-A9BA-451E50CD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DB878-B669-43A6-BE82-E8CA9693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CC532-4EE4-4474-9436-DE4415D2F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8F290-17D6-4F4C-93D4-2F8272772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21B96-7C14-447D-BA47-8F6041810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F4DE-3342-4DC8-91CF-E1ABCFE10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B0A6-4C38-4BBB-962A-531BF226F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A618-3FBB-40C2-8D6F-689CFBE0F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D9C9-A3BF-4794-9543-D6BC59961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7570-F480-4772-AE85-33C835ED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4C4B-9081-4A5F-8B19-758867CC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974D-4AAC-42CC-983B-605176B1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FE113-8B1E-4184-A167-51D5D2A57A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CD06E-AE01-45F5-BA2E-B3C101ED7E3D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line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linda Oy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chnology Coordina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gland School Distri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hanging Picture on Class Pag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2640" y="2057400"/>
            <a:ext cx="6513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.jpg, .png or .gi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314 pixels wide (height doesn’t matter) and smaller than 75 kilobytes (kb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Pixresizer (free download) to alter pi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 Class – Im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owse to Image and Uplo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bined Calend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calendar events (Assignments and Tests) for your cl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udents and parents will see all events that pertain to them under their combined calenda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on Calendar Edit icon and click Add or click on the number in the date and click Ad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bined Calendar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 Title should be specific to your class (i.e., Smith’s Algebra I Tes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reoccuring events, if necessar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ype or add any documents related to event such as study guides (with link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ll classes for this ev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 visibility, if necessar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ve or Save and Return to add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w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s events for your cl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udents and parents will see all News items that pertain to th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on News Edit icon and click Ad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 Title should be specific to your class (i.e., FCCLA Places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National Competiti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reoccuring events, if necessar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w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ype or add any documents related to event such as Certificates (with link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ll classes for this ev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 visibility, if necessar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ve or Save and Return to add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Links to your classes by clicking the Edit ic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 Title should be releva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link (copy and paste lin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to all classes, if appropri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ve or Save and Return to add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ploading Lesson Pla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on My Contents, My File Loc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on Add to add a Docu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cument Title should be relevant (i.e., English I Lesson Plan Week 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Calendar 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on “Import an existing file,” Browse and Impor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Save and Retu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ploading Lesson Plans to Cont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on Edit icon on Contents (make sure you are in a cla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down arrow and Choose Fol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Add and add Lesson Plan Fol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ave and Retur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on Lesson Plan you uploaded earlier and then Click on Move To and Choose Lesson Plan (This will move your lesson plan into the newly created folder.) and Sav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ce you have items in your folder, you can Copy the folder to your other class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on Lesson Plan folder and Click Copy To and choose your other classes and Save.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ld Class Materi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on My Content and Old Class Materials for old lesson plans and gradeboo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Edlin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web hosting software used to communicate with parents, students and teach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Picture 6" descr="C:\Program Files\Common Files\Microsoft Shared\Clipart\cagcat50\PE01561_.wmf"/>
          <p:cNvPicPr/>
          <p:nvPr/>
        </p:nvPicPr>
        <p:blipFill>
          <a:blip r:embed="rId1"/>
          <a:stretch/>
        </p:blipFill>
        <p:spPr>
          <a:xfrm>
            <a:off x="4495680" y="2438280"/>
            <a:ext cx="381024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efits of Ed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engthens home-school conne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gages students with a variety of learning sty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es paper outp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eat organization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es for Teach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t gra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t assignments, tests and other due d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chive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ize curricul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gial sha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Portfol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sh Frame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6" descr="C:\Program Files\Common Files\Microsoft Shared\Clipart\cagcat50\PE03254_.wmf"/>
          <p:cNvPicPr/>
          <p:nvPr/>
        </p:nvPicPr>
        <p:blipFill>
          <a:blip r:embed="rId1"/>
          <a:stretch/>
        </p:blipFill>
        <p:spPr>
          <a:xfrm>
            <a:off x="1182600" y="2357280"/>
            <a:ext cx="381024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es for Par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room Assign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Calend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ing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arch sugges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 practice she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Picture 9" descr="C:\Program Files\Common Files\Microsoft Shared\Clipart\cagcat50\BS00580_.wmf"/>
          <p:cNvPicPr/>
          <p:nvPr/>
        </p:nvPicPr>
        <p:blipFill>
          <a:blip r:embed="rId1"/>
          <a:stretch/>
        </p:blipFill>
        <p:spPr>
          <a:xfrm>
            <a:off x="5145120" y="2470320"/>
            <a:ext cx="380988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es for Stud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room Assign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Calend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ing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arch suggestions (web link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 practice she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collabo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Picture 4" descr="C:\Program Files\Common Files\Microsoft Shared\Clipart\cagcat50\BS00580_.wmf"/>
          <p:cNvPicPr/>
          <p:nvPr/>
        </p:nvPicPr>
        <p:blipFill>
          <a:blip r:embed="rId1"/>
          <a:stretch/>
        </p:blipFill>
        <p:spPr>
          <a:xfrm>
            <a:off x="5145120" y="2470320"/>
            <a:ext cx="380988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tivate Accoun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6589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ate account with activation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ate at both schools if you have classes at both campu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y Accou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 passwo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urity quest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ail op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L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on Help for context sensitive gui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acher Quick 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Picture 4" descr="C:\Users\melinda.oyler.ENGLAND\AppData\Local\Microsoft\Windows\Temporary Internet Files\Content.IE5\OVGS2XBP\MC900434859[1].png"/>
          <p:cNvPicPr/>
          <p:nvPr/>
        </p:nvPicPr>
        <p:blipFill>
          <a:blip r:embed="rId1"/>
          <a:stretch/>
        </p:blipFill>
        <p:spPr>
          <a:xfrm>
            <a:off x="5638680" y="2057400"/>
            <a:ext cx="303696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21:09:47Z</dcterms:created>
  <dc:creator>Student</dc:creator>
  <dc:description/>
  <dc:language>en-US</dc:language>
  <cp:lastModifiedBy>melinda.oyler</cp:lastModifiedBy>
  <dcterms:modified xsi:type="dcterms:W3CDTF">2010-08-17T19:39:18Z</dcterms:modified>
  <cp:revision>19</cp:revision>
  <dc:subject/>
  <dc:title>Edline</dc:title>
</cp:coreProperties>
</file>